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8.wmf" ContentType="image/x-wmf"/>
  <Override PartName="/ppt/media/image9.png" ContentType="image/png"/>
  <Override PartName="/ppt/media/image1.jpeg" ContentType="image/jpeg"/>
  <Override PartName="/ppt/media/image13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11.wmf" ContentType="image/x-wmf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57400" y="680760"/>
            <a:ext cx="4543200" cy="34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EB80-3A82-4412-BD03-EA3437446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79F7-C656-4406-B724-6E2FA9AAA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6F06-6A82-4421-A147-47A529996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using the domain theo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How an object can be magnet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Note:  Some ships hulls, buildings become magnetized due to Earth’s magnetic field and constant vib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How an object can be demagnet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Why some materials hold on to an induced field and others do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C698-4BE3-485F-9D16-131A9DB56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 How does this help explain the domain theory of magnetis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 RHR - Straight Condu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 RHR - Loop of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 RHR - Solen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A402-9FFB-414A-96C3-84F1508C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732E-CD58-4F5F-BF3A-F0E762A9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CC3A-EA00-45AF-A454-D9A8B6C1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2359-4F51-4DDF-9946-94BB14F87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7002-38B1-490E-8619-CB220243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E39B-A34E-43F2-84DD-E423C824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60AE-B440-4F84-99AF-706E3320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7063-9FB6-4F66-9BE5-F37B31BF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C761-F3E9-4AC5-AD5C-65EFC264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9F6E-1CD4-4788-A724-5EDC2A07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81B5-1240-458D-A9E9-0DB3E67E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7CDB-1829-446F-9D9C-6FFE5018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3DB5-330C-436F-8900-2CEA0852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B854-D15F-4C80-AB81-8A73CC68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1E92-9351-46A8-9222-9724835A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61BB-D676-4BC3-9EB6-3EEF16FD0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0994-BC26-4537-8722-08C71E24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41D7C-9EC0-429D-9BAE-514E80AC2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420E5-55D3-4C56-B8BE-FD6B4E88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60740-3AFD-4002-93A0-7941FE59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FA114-60C9-4D6A-A87B-8BBF5AB7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88DA0-2B14-4848-B76B-300B7D8A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CD8A-58E7-47C7-B00D-10EF7864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9FC45-94A5-4CE1-ADAF-73AB201B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174FE-39E0-47E0-9B24-145B3751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9F9DD-3A92-4C8B-B7C0-8EA3E6C3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AF317-9EE8-4C27-895C-B711255B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EB167-94D1-4A1B-8C69-AA94F1BD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30C78-075B-447A-9BDE-395ED3BEE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4C352-B349-4A9D-9076-9C63F856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E5C32-EB32-4792-AC10-209468EEC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5C58D-837F-4571-B778-20CB2C54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730A2-4461-47EC-8351-BFF17B82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EE4E-B88C-4EAF-BEFA-114A6FD5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46889-F1F5-47DC-944D-BAD2D580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775CB-3EF0-4CD6-AF9D-56A431BE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762DF-3731-4551-A788-7365237D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5D055-38F3-4D13-871A-16C7C47C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DBFB0-68C3-4730-A0F6-4EEE7F1C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82E16-F0C8-47EA-B28B-F649A921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227C2-4EB4-4486-B4A5-4E28539B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1777A-5160-40EC-98E4-B5E450560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DA767-C629-45EA-9F59-D6D93E01C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7065-D3E1-4279-9212-92B6471B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B363-894D-4AB5-96C2-430BE0B2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C2CC-56D2-4EC2-BEE4-E9EA2790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F689-BC56-4796-80FA-595D191D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EF23-A784-4DA0-9704-593F1956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2BCA-2E86-46BA-BF3D-F6DA6724D89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33F8-812B-4528-96B9-0918E5F8893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A2F9-803A-4688-9818-9C7D16B6073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9F58-09FA-41AD-A405-D681F31A647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302680" cy="2322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hat do we know about magnetism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 They have po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 Opposite poles attract, similar poles rep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 It is an action-at-a-distance force (therefore can be described i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terms of field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 One of the oldest known forces (magnetite was a naturall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occurring magnet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 Is used for navigation (Earth’s iron core creates a magnetic fiel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aligned in the NS direction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hat are some properties of magnet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 Things can be magnetized and demagnetize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 When a magnet is broken in half it makes two smaller magne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 Some objects when magnetized maintain the field, others do no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 Heating, dropping and striking a magnet can demagnetize i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 A strong magnetic field can reverse the direction of a bar magne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857760" y="14040"/>
            <a:ext cx="142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LE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Incandescent ligh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omain Theo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erromagnetic materials can be magnetized (ex. Iron, nickel, cobal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erromagnetic materials are made up of tiny magnetic domains which act like miniature magne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, on average, the magnetic domains align they create an induced magn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lectromagnet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ersted’s Principal:  A moving electric current induces a magnetic fiel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direction of the induced electromagnetic field can be determined using the Right Hand Ru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3960720" cy="2337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"/>
          <p:cNvPicPr/>
          <p:nvPr/>
        </p:nvPicPr>
        <p:blipFill>
          <a:blip r:embed="rId2"/>
          <a:stretch/>
        </p:blipFill>
        <p:spPr>
          <a:xfrm>
            <a:off x="5651640" y="765000"/>
            <a:ext cx="3095640" cy="2600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"/>
          <p:cNvPicPr/>
          <p:nvPr/>
        </p:nvPicPr>
        <p:blipFill>
          <a:blip r:embed="rId3"/>
          <a:stretch/>
        </p:blipFill>
        <p:spPr>
          <a:xfrm>
            <a:off x="1332000" y="3645000"/>
            <a:ext cx="6769080" cy="296064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7"/>
          <p:cNvSpPr/>
          <p:nvPr/>
        </p:nvSpPr>
        <p:spPr>
          <a:xfrm>
            <a:off x="2556000" y="2852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HR for straight cond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6300720" y="623736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HR for solen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4617b"/>
                </a:solidFill>
                <a:latin typeface="Calibri"/>
              </a:rPr>
              <a:t>Relative permeability:</a:t>
            </a:r>
            <a:r>
              <a:rPr b="0" lang="en-US" sz="2200" spc="-1" strike="noStrike">
                <a:solidFill>
                  <a:srgbClr val="04617b"/>
                </a:solidFill>
                <a:latin typeface="Calibri"/>
              </a:rPr>
              <a:t> is the ratio of the magnetic field strength for a particular core material to the magnetic field strength in the absent of the material.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628956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4617b"/>
                </a:solidFill>
                <a:latin typeface="Calibri"/>
              </a:rPr>
              <a:t>Magnetic Force on Moving Charge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2843280" y="1916280"/>
            <a:ext cx="37400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0492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the magnetic fields of the permanent magnet and the conducto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termine the direction of the force on the conducto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2139840" cy="2155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"/>
          <p:cNvPicPr/>
          <p:nvPr/>
        </p:nvPicPr>
        <p:blipFill>
          <a:blip r:embed="rId2"/>
          <a:stretch/>
        </p:blipFill>
        <p:spPr>
          <a:xfrm>
            <a:off x="5029200" y="2209680"/>
            <a:ext cx="2154240" cy="21542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"/>
          <p:cNvPicPr/>
          <p:nvPr/>
        </p:nvPicPr>
        <p:blipFill>
          <a:blip r:embed="rId3"/>
          <a:stretch/>
        </p:blipFill>
        <p:spPr>
          <a:xfrm>
            <a:off x="2362320" y="4952880"/>
            <a:ext cx="426708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Calibri"/>
              </a:rPr>
              <a:t>Show the labels of the magnetic poles, the magnetic field, and</a:t>
            </a:r>
            <a:br>
              <a:rPr sz="2000"/>
            </a:br>
            <a:r>
              <a:rPr b="0" lang="en-US" sz="2000" spc="-1" strike="noStrike">
                <a:solidFill>
                  <a:srgbClr val="04617b"/>
                </a:solidFill>
                <a:latin typeface="Calibri"/>
              </a:rPr>
              <a:t>the direction of force on the conduct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4191120" cy="2587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"/>
          <p:cNvPicPr/>
          <p:nvPr/>
        </p:nvPicPr>
        <p:blipFill>
          <a:blip r:embed="rId2"/>
          <a:stretch/>
        </p:blipFill>
        <p:spPr>
          <a:xfrm>
            <a:off x="4927680" y="2286000"/>
            <a:ext cx="3911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23:54:19Z</dcterms:created>
  <dc:creator>Chanh &amp; Nhat</dc:creator>
  <dc:description/>
  <dc:language>en-US</dc:language>
  <cp:lastModifiedBy>Katie</cp:lastModifiedBy>
  <cp:lastPrinted>2013-07-12T14:42:58Z</cp:lastPrinted>
  <dcterms:modified xsi:type="dcterms:W3CDTF">2014-07-11T15:34:48Z</dcterms:modified>
  <cp:revision>22</cp:revision>
  <dc:subject/>
  <dc:title>Magnetism</dc:title>
</cp:coreProperties>
</file>